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7E31-8C32-4640-9EDE-394FE14EA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in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k 20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ed full or partial citizen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x and legal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ed loyalty in conquered Italian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asion by King Pyrrhus (pyrrhic vic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colon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in strategic lo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ablished by trea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oops sent when nee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s of the area left int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nies were mostly for trade, with some military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 of non-Roman Italians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es rather than servants or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st, direct attacks with strong determination and 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of the "empire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a republican form of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s and bal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arties emerg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mares (conservatives, Cato and Cice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ulares (power to peop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lues (according to the Roma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e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ug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gre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eous w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q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s of 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ence of men at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gained economic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divorce and retain prop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als eventually eroded, in part because home-life erod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 increas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the number of sl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ed 40%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he popu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itions were p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feared slave upri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s took jobs from the plebs so plebs were given food and other benef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of the army to override counci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-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n to aristocratic fam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ia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 that he descended from the g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n for partying and sexual appet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tured by pirates and held for rans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area and killed pir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to a series of government j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ue of Alexa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umvi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aised for his work in Sp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 in Gaul (conque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iance with Crassus and Pompey to form the triumvirate (not initially, but later elec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alry with Pompey after death of Crass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ing the Rub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rising in As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ni, vidi, vici—I came, I saw, I conqu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f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opat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ed to Rome as a conquering h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ion for each territory on a different day (Gaul, Africa, Spain, Asia) and games for many additional da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red crown (as emperor) twice and refused it when people didn't respond favorab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tator (rule by one ma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for 10 years and then for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esar’s plans for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endar (Ju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braries, theaters, other public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ve citizenship to people in Spain and Ga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ale of Aeneas (The Aene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o at Carthage and other travels (like The Odyss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al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tlements from 11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rder of Caes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lled by senatorial oppon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gated by his usurpation of power and their fear that he would become emper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d March 15, 44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bbed by 20 sen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utus—illegitimate 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 Anthony and Octav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llied against the conspir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apse of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nce used to eliminate enemies and impose one’s w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cch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-election to consulate (many times) and standing ar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sumption of dictator powers, use of the army to override councils, proscription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conquered Greece 150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took on much Greek cul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and goddesses parallel each 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ds had Indo-European ro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a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over other powers and then direct conquest to subdue the local tri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quest continued through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republic and empire perio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terix and Obelis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an Empi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enough land to support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 were needed and resp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quisition of wheat and other foods became a prio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ctory over Carthage provided more 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e was a consu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ding profits made many Romans r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remes of wealth and pover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tizens did not have to pay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oman R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s against the Latins (like The Illi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 of the Sabine Women (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ing of Rome –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ity (Kingdom)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an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in princess was Vestal virg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ed by Mars, bore twin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dered killed by non-Latin 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kled by a wo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and founded a city (753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ulus killed Re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ic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truscans conquered the Romans (non-Latin k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mans eventually overthrew Etruscans and established king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ins of home of king (Romulus?) date from 8th Century 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ries became legends for Romans throughout their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led by a senate and the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QR= Senate and the People of R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(patricians) appointed consuls (1 ye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affairs and the mili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access by the people to the cons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(plebs) organized by tribes and they elected 10 tribu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ed local aff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veto power (individual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alanced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made laws but advice was accep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d power to appoint a person to solve a specific problem (He was a "speaker" or "dictator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censors (moral guardian/rank jud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ed gover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ilium pleb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all the laws (called plebecit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ed magistrates (administrators) and jud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tia Curiata/Centuriata – plebs and patric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ted the emporium (military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et in the forum (looked over each oth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ntifex Maxim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gious l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sons with US gover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 of p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ate and House of Representa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ul (= presi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bune (veto pow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s (in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powe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sor (?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itary Org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uries — 100 armed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d by Centurian (from the ran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ples—3 Centu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move quickly through difficult terrain (better than phalan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decisions (tribu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ions—groups of Mani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00 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ed by light caval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i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th for individual insubord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mation for coward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3B2F-6F69-4617-9425-A81042FE7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C967-45B5-42FF-9392-D2C8F6F7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E33-56DC-499C-AF84-C8BA8FD47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386-3AD5-482E-8CCD-A46547406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178-51A9-4D80-A1EC-7CA0AA7F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1F1A-E18B-46F3-96D1-E21593377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7484-A2FB-488C-BAB1-0C421ED9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E146-6A00-4398-A709-A8F99263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A8B55-41BE-4ABD-BF23-1A0C2B60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CB92-40BC-4FDE-A93D-71630DB1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85CF-0E4D-4507-B793-BC546CDD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0B00-2863-4297-BEC5-FB47938F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53058-3237-4E46-877B-9AB742525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spqr"/>
          <p:cNvPicPr/>
          <p:nvPr/>
        </p:nvPicPr>
        <p:blipFill>
          <a:blip r:embed="rId1"/>
          <a:stretch/>
        </p:blipFill>
        <p:spPr>
          <a:xfrm>
            <a:off x="1828800" y="2514600"/>
            <a:ext cx="55627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Roman Expansion (in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quest of I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ook 2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Granted full or partial citizen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ax and leg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veloped loyalty in conquered Italian are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vasion by King Pyrrhus (pyrrhic vict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 colo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stablished in strategic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stablished by trea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oops sent when nee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ustoms of the area left int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lonies were mostly for trade, with some military purpo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2" descr="exp1"/>
          <p:cNvPicPr/>
          <p:nvPr/>
        </p:nvPicPr>
        <p:blipFill>
          <a:blip r:embed="rId1"/>
          <a:stretch/>
        </p:blipFill>
        <p:spPr>
          <a:xfrm>
            <a:off x="4800600" y="990720"/>
            <a:ext cx="3962520" cy="265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5" descr="exp5"/>
          <p:cNvPicPr/>
          <p:nvPr/>
        </p:nvPicPr>
        <p:blipFill>
          <a:blip r:embed="rId2"/>
          <a:stretch/>
        </p:blipFill>
        <p:spPr>
          <a:xfrm>
            <a:off x="4724280" y="3886200"/>
            <a:ext cx="40388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581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nic W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enicians (Poen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c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nibal attacked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elp of non-Roman Italians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map_punic_wars.gif"/>
          <p:cNvPicPr/>
          <p:nvPr/>
        </p:nvPicPr>
        <p:blipFill>
          <a:blip r:embed="rId1"/>
          <a:stretch/>
        </p:blipFill>
        <p:spPr>
          <a:xfrm>
            <a:off x="3809880" y="1195560"/>
            <a:ext cx="533412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oman Expansion (outside Ital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quest of the East and 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ies rather than servants or sla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ol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ruption in the Greek kingdo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states given to the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ast, direct attacks with strong determination and 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numbered in most batt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ctory over Parthia (parthian sh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exp12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ructure of the "empir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ll a republican form of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ecks and bal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wo parties emer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ptimares (conservatives, Cato and Cic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pulares (power to peo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(according to the Roma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ie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ug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gree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ighteous w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q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cato"/>
          <p:cNvPicPr/>
          <p:nvPr/>
        </p:nvPicPr>
        <p:blipFill>
          <a:blip r:embed="rId1"/>
          <a:stretch/>
        </p:blipFill>
        <p:spPr>
          <a:xfrm>
            <a:off x="7086600" y="3352680"/>
            <a:ext cx="185724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94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us of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ce of men at w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men gained economic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ility to divorce and retain prop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als eventually eroded, in part because home-life ero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7" descr="girl_peplos2"/>
          <p:cNvPicPr/>
          <p:nvPr/>
        </p:nvPicPr>
        <p:blipFill>
          <a:blip r:embed="rId1"/>
          <a:stretch/>
        </p:blipFill>
        <p:spPr>
          <a:xfrm>
            <a:off x="6400800" y="1219320"/>
            <a:ext cx="252396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la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s increase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        the number of sl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tituted 40% of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       the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itions were po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ans feared slave upri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aves took jobs from the plebs so plebs were given food and other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slaves2"/>
          <p:cNvPicPr/>
          <p:nvPr/>
        </p:nvPicPr>
        <p:blipFill>
          <a:blip r:embed="rId1"/>
          <a:srcRect l="0" t="2520" r="0" b="4401"/>
          <a:stretch/>
        </p:blipFill>
        <p:spPr>
          <a:xfrm>
            <a:off x="5257800" y="1676520"/>
            <a:ext cx="3733920" cy="26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0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cchus 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olence used to impose one'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of the army to override cou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Julius Caesar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100-44 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arly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rn to aristocratic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ian 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gend that he descended from th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nown for partying and sexual appet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ptured by pirates and held for rans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turned to area and killed pi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ointed to a series of government j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tue of Alexa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ulcaes"/>
          <p:cNvPicPr/>
          <p:nvPr/>
        </p:nvPicPr>
        <p:blipFill>
          <a:blip r:embed="rId1"/>
          <a:srcRect l="0" t="3231" r="6104" b="3231"/>
          <a:stretch/>
        </p:blipFill>
        <p:spPr>
          <a:xfrm>
            <a:off x="7010280" y="228600"/>
            <a:ext cx="19051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umvi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aised for his work in S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governor in Gaul (con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iance with Crassus and Pompey to form the triumvirate (not initially, but later el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ivalry with Pompey after death of Cras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rossing the Rubic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prising in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ni, vidi, vici—I came, I saw, I conqu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quest of Egy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eopa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jcaesar_coin"/>
          <p:cNvPicPr/>
          <p:nvPr/>
        </p:nvPicPr>
        <p:blipFill>
          <a:blip r:embed="rId1"/>
          <a:stretch/>
        </p:blipFill>
        <p:spPr>
          <a:xfrm>
            <a:off x="6248520" y="228600"/>
            <a:ext cx="2590560" cy="25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turned to Rome as a conquering h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ion for each territory on a different day (Gaul, Africa, Spain, Asia) and games for many additional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fered crown (as emperor) twice and refused it when people didn't respond favorab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ctator (rule by one ma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ointed for 10 years and then for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esar’s plans for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endar (Ju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braries, theaters, other public 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citizenship to people in Spain and Ga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ale of Aenea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Aenei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ido at Carthage and other travels (lik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Odysse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al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ttlements from 1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aeneid"/>
          <p:cNvPicPr/>
          <p:nvPr/>
        </p:nvPicPr>
        <p:blipFill>
          <a:blip r:embed="rId1"/>
          <a:stretch/>
        </p:blipFill>
        <p:spPr>
          <a:xfrm>
            <a:off x="1523880" y="2971800"/>
            <a:ext cx="60199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Julius Caes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876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rder of Cae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illed by senatorial op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stigated by his usurpation of power and their fear that he would become empe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ed March 15, 44 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bbed by 20 sen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rutus—illegitimate 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k Anthony and Octavi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llied against the conspir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romanhist10"/>
          <p:cNvPicPr/>
          <p:nvPr/>
        </p:nvPicPr>
        <p:blipFill>
          <a:blip r:embed="rId1"/>
          <a:stretch/>
        </p:blipFill>
        <p:spPr>
          <a:xfrm>
            <a:off x="5435640" y="1066680"/>
            <a:ext cx="335124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Georgia"/>
              </a:rPr>
              <a:t>Thank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llapse of the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olence used to eliminate enemies and impose one’s w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ch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-election to consulate (many times) and standing ar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r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ption of dictator powers, use of the army to override councils, proscription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Roman Republ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e conquered Greece 150 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mans took on much Greek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and goddesses parallel each 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had Indo-European ro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RomanWorld133BC-display"/>
          <p:cNvPicPr/>
          <p:nvPr/>
        </p:nvPicPr>
        <p:blipFill>
          <a:blip r:embed="rId1"/>
          <a:srcRect l="1453" t="1912" r="1093" b="12539"/>
          <a:stretch/>
        </p:blipFill>
        <p:spPr>
          <a:xfrm>
            <a:off x="304920" y="228600"/>
            <a:ext cx="853416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Conqu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over other powers and then direct conquest to subdue the local tri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quest continued through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 republic and empire perio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asterix"/>
          <p:cNvPicPr/>
          <p:nvPr/>
        </p:nvPicPr>
        <p:blipFill>
          <a:blip r:embed="rId1"/>
          <a:stretch/>
        </p:blipFill>
        <p:spPr>
          <a:xfrm>
            <a:off x="6473880" y="3429000"/>
            <a:ext cx="2450880" cy="32288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3553200" y="5029200"/>
            <a:ext cx="263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sterix and Obelis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Building an Empi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c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enough land to support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armers were needed and resp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quisition of wheat and other foods became a pri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ctory over Carthage provided more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e was a consu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ding profits made many Romans ri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s of wealth and pov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itizens did not have to pay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sabine-women"/>
          <p:cNvPicPr/>
          <p:nvPr/>
        </p:nvPicPr>
        <p:blipFill>
          <a:blip r:embed="rId1"/>
          <a:stretch/>
        </p:blipFill>
        <p:spPr>
          <a:xfrm>
            <a:off x="1752480" y="2895480"/>
            <a:ext cx="5067360" cy="3740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Roma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R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against the Latins (lik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e Illi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e of the Sabine Wome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Founding of Rome –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The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Georgia"/>
              </a:rPr>
              <a:t>City (Kingdom)</a:t>
            </a:r>
            <a:r>
              <a:rPr b="1" lang="en-US" sz="4000" spc="-1" strike="noStrike">
                <a:solidFill>
                  <a:srgbClr val="000000"/>
                </a:solidFill>
                <a:latin typeface="Georgia"/>
              </a:rPr>
              <a:t> of R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334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mulus and Re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tin princess was Vestal vir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ped by Mars, bore twin bo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ered killed by non-Latin k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ckled by a wo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ew and founded a city (753B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ulus killed Re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storic Ev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Etruscans conquered the Romans (non-Latin k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mans eventually overthrew Etruscans and established kingd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ins of home of king (Romulus?) date from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entury 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dc1"/>
          <p:cNvPicPr/>
          <p:nvPr/>
        </p:nvPicPr>
        <p:blipFill>
          <a:blip r:embed="rId1"/>
          <a:srcRect l="1917" t="11720" r="6006" b="8280"/>
          <a:stretch/>
        </p:blipFill>
        <p:spPr>
          <a:xfrm>
            <a:off x="5257800" y="2362320"/>
            <a:ext cx="36576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0384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war of independence from Etruscans (500 B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 heroes exhibit desired qualities of Rom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ratio at the bridge (Oath of the Horatii by Jacques Louis Dav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tories became legends for Romans throughout thei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to American War of Indepen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al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d by 7 k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olted against last king to found the repub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The image “http://www.louvre.fr/img/photos/collec/peint/grande/inv3692.jpg” cannot be displayed, because it contains errors."/>
          <p:cNvPicPr/>
          <p:nvPr/>
        </p:nvPicPr>
        <p:blipFill>
          <a:blip r:embed="rId1"/>
          <a:stretch/>
        </p:blipFill>
        <p:spPr>
          <a:xfrm>
            <a:off x="4419720" y="2971800"/>
            <a:ext cx="4724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Republican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d by a senate and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QR= Senate and the People of R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(patricians) appointed consuls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1 ye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eign affairs and the mili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rect access by the people to the cons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ople (plebs) organized by tribes and they elected 10 tribu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ed local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d veto power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individual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SPQR"/>
          <p:cNvPicPr/>
          <p:nvPr/>
        </p:nvPicPr>
        <p:blipFill>
          <a:blip r:embed="rId1"/>
          <a:srcRect l="14584" t="15062" r="13540" b="6679"/>
          <a:stretch/>
        </p:blipFill>
        <p:spPr>
          <a:xfrm>
            <a:off x="5791320" y="4381560"/>
            <a:ext cx="335268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Constitution</a:t>
            </a: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Georgia"/>
              </a:rPr>
              <a:t>(balanced pow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ver made laws but advice was accep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d power to appoint a person to solve a specific problem (He was a "speaker" or "dictator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censors (moral guardian/rank jud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govern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ncilium pleb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d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laws (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plebecit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ected magistrates (administrators) and jud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omitia Curiata/Centuriata –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ebs and patr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mmitted the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mporiu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military pow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 met in the forum (looked over each oth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ontifex Max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ligious l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senate"/>
          <p:cNvPicPr/>
          <p:nvPr/>
        </p:nvPicPr>
        <p:blipFill>
          <a:blip r:embed="rId1"/>
          <a:stretch/>
        </p:blipFill>
        <p:spPr>
          <a:xfrm>
            <a:off x="5181480" y="152280"/>
            <a:ext cx="37530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eorgia"/>
              </a:rPr>
              <a:t>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isons with U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lance of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nate and House of Represent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ul (= presi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ibune (veto po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urts (independ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ilitary powe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sor 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U"/>
          <p:cNvPicPr/>
          <p:nvPr/>
        </p:nvPicPr>
        <p:blipFill>
          <a:blip r:embed="rId1"/>
          <a:stretch/>
        </p:blipFill>
        <p:spPr>
          <a:xfrm>
            <a:off x="5638680" y="4300560"/>
            <a:ext cx="327672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eorgia"/>
              </a:rPr>
              <a:t>Military Organ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6019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nturies — 100 armed 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ded by Centurian (from the ran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iples—3 Centu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uld move quickly through difficult terrain (better than phala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dependent decisions (tribu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gions—groups of Mani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00 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orted by light caval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ip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ath for individual insub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cimation for cowar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caesar-m"/>
          <p:cNvPicPr/>
          <p:nvPr/>
        </p:nvPicPr>
        <p:blipFill>
          <a:blip r:embed="rId1"/>
          <a:stretch/>
        </p:blipFill>
        <p:spPr>
          <a:xfrm>
            <a:off x="6324480" y="1295280"/>
            <a:ext cx="2540160" cy="31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2T21:31:48Z</dcterms:created>
  <dc:creator>strongb</dc:creator>
  <dc:description/>
  <dc:language>en-US</dc:language>
  <cp:lastModifiedBy>RomaK</cp:lastModifiedBy>
  <dcterms:modified xsi:type="dcterms:W3CDTF">2015-09-04T09:33:12Z</dcterms:modified>
  <cp:revision>43</cp:revision>
  <dc:subject/>
  <dc:title>Corporate Creativity</dc:title>
</cp:coreProperties>
</file>